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11E-61B0-4B14-9039-079D7B8A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FB4-65F9-494A-939E-ABB1BA8A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95F-9FF6-4B36-9F0C-CB611877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327-3C56-4CDA-94A6-7E8157CB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6CE-6713-4219-83A2-4DAF05C8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2E6-1808-4068-88BC-5C57AA57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8A9-56E1-4F34-95E0-7854F37F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D7E-4171-429D-974F-0D43E3E1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944-8D7D-493B-B50B-795A9484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9BB-4117-45FB-84D5-8B1209E5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829-C759-40F1-876F-185BB58A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1DB-8BF3-4C91-9CDA-8613887B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A8A36-73C8-4314-B3FB-B1EB9572130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«Ленинский сельсовет»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на 201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год плановый период 2020-2021 годов</a:t>
            </a:r>
            <a:br>
              <a:rPr sz="3600"/>
            </a:b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ЛЕНИНСКОГО СЕЛЬСОВЕТА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2020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-2021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годы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87280" y="2349360"/>
          <a:ext cx="5975640" cy="4253040"/>
        </p:xfrm>
        <a:graphic>
          <a:graphicData uri="http://schemas.openxmlformats.org/drawingml/2006/table">
            <a:tbl>
              <a:tblPr/>
              <a:tblGrid>
                <a:gridCol w="3816360"/>
                <a:gridCol w="1079640"/>
                <a:gridCol w="107964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6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4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2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2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6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4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Администрации Ленинского 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«Ленинский 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ЛЕНИНСКОГО СЕЛЬСОВЕТА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201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9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год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87280" y="2349360"/>
          <a:ext cx="5975640" cy="4253040"/>
        </p:xfrm>
        <a:graphic>
          <a:graphicData uri="http://schemas.openxmlformats.org/drawingml/2006/table">
            <a:tbl>
              <a:tblPr/>
              <a:tblGrid>
                <a:gridCol w="3816360"/>
                <a:gridCol w="215928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2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2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2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Ленинского сельсовета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на 201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9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год 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1341360"/>
          <a:ext cx="3816360" cy="4405320"/>
        </p:xfrm>
        <a:graphic>
          <a:graphicData uri="http://schemas.openxmlformats.org/drawingml/2006/table">
            <a:tbl>
              <a:tblPr/>
              <a:tblGrid>
                <a:gridCol w="2016360"/>
                <a:gridCol w="1800000"/>
              </a:tblGrid>
              <a:tr h="3938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9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65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расходов бюджета Ленинского сельсовета 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на 2019 годгодах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907920"/>
          <a:ext cx="8388360" cy="3672000"/>
        </p:xfrm>
        <a:graphic>
          <a:graphicData uri="http://schemas.openxmlformats.org/drawingml/2006/table">
            <a:tbl>
              <a:tblPr/>
              <a:tblGrid>
                <a:gridCol w="6603840"/>
                <a:gridCol w="1784520"/>
              </a:tblGrid>
              <a:tr h="5050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2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2.Муниципальная программа «Социальная поддержка гражда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3. Муниципальная программа «Обеспечение доступным и комфортным жильем и коммунальными услугами гражда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4.Муниципальная программа «Управление муниципальным имуществом и земельными ресурса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5.Муниципальная программа «Развитие муниципальной служб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Ленинского сельсовета Касторенского района Курской области  на общегосударственные вопросы  (тыс.руб) на 2019 год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7786800" cy="4059360"/>
        </p:xfrm>
        <a:graphic>
          <a:graphicData uri="http://schemas.openxmlformats.org/drawingml/2006/table">
            <a:tbl>
              <a:tblPr/>
              <a:tblGrid>
                <a:gridCol w="4979880"/>
                <a:gridCol w="280692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1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65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74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1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5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Ленинского сельсовета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на плановый период 2020-2021 годов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411280" y="1341360"/>
          <a:ext cx="5040360" cy="5103720"/>
        </p:xfrm>
        <a:graphic>
          <a:graphicData uri="http://schemas.openxmlformats.org/drawingml/2006/table">
            <a:tbl>
              <a:tblPr/>
              <a:tblGrid>
                <a:gridCol w="1370160"/>
                <a:gridCol w="1798560"/>
                <a:gridCol w="1871640"/>
              </a:tblGrid>
              <a:tr h="3938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8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2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2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2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0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86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84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dcterms:modified xsi:type="dcterms:W3CDTF">2018-11-15T07:00:29Z</dcterms:modified>
  <cp:revision>61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