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DB1-D4BB-4638-94A0-7C9F384C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125-C759-44DC-AA32-F4497A91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74B8-2F92-4DBF-BDC9-39AB0F806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055-B8F6-4733-82CE-91350F38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0F8-E468-4E31-8CCF-B325820C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DB6-AC4A-4296-8058-AD997107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FAD-389D-4A6E-B2FD-FE7B0772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D3FE-025D-4516-879C-DDA85F2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A73C-3E08-4615-83E6-AA063F6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34E8-0104-4FEF-B2B3-A0E8BFC1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8D6-30AE-4632-8A1F-779E434E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D00B-AE97-41FA-9A92-B522B781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5D862-7B8D-4F03-8C9A-95ADF48067EC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Ленинский сельсовет»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Касторенского района Курской области на 2015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2016 и 2017 годов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ЛЕНИНСКОГО  СЕЛЬСОВ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7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40" name="Object 3" descr=""/>
          <p:cNvPicPr/>
          <p:nvPr/>
        </p:nvPicPr>
        <p:blipFill>
          <a:blip r:embed="rId2"/>
          <a:stretch/>
        </p:blipFill>
        <p:spPr>
          <a:xfrm>
            <a:off x="-447840" y="1725480"/>
            <a:ext cx="939672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Ленинского сельсовета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15 год и на плановый период 2016 и 2017 годов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125360"/>
          <a:ext cx="8231040" cy="440532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5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3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3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2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2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7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4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34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4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расходов бюджета Ленинского сельсовета 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15-2017 годах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907920"/>
          <a:ext cx="9002880" cy="277200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50508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3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7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2.Муниципальная программа «Социальная поддержка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Lucida Sans Unicode"/>
                        </a:rPr>
                        <a:t>3. Муниципальная программа «Обеспечение доступным и комфортным жильем и коммунальными услугами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  <a:ea typeface="Lucida Sans Unicode"/>
                        </a:rPr>
                        <a:t>5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Ленинского сельсовета Касторенского района Курской области  на общегосударственные вопросы  (тыс.руб)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600200"/>
          <a:ext cx="8231040" cy="405936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3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2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2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Администрации Ленинского 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«Ленинский 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ЛЕНИНСКОГО СЕЛЬСОВЕТА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15 год и плановый период 2016-2017 годов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8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3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140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ЛЕНИНСКОГО СЕЛЬСОВ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на 2015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1469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476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99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ЛЕНИНСКОГО СЕЛЬСОВЕТА 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6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11" name="AutoShape 4"/>
            <p:cNvCxnSpPr>
              <a:stCxn id="112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3" name="AutoShape 5"/>
            <p:cNvCxnSpPr>
              <a:stCxn id="114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5" name="AutoShape 6"/>
            <p:cNvCxnSpPr>
              <a:stCxn id="116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17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18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1341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478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86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ЛЕНИНСКОГО  СЕЛЬСОВЕТА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7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23" name="AutoShape 4"/>
            <p:cNvCxnSpPr>
              <a:stCxn id="124" idx="0"/>
            </p:cNvCxnSpPr>
            <p:nvPr/>
          </p:nvCxnSpPr>
          <p:spPr>
            <a:xfrm flipV="1" rot="16200000">
              <a:off x="5442120" y="2602800"/>
              <a:ext cx="892800" cy="296460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5" name="AutoShape 5"/>
            <p:cNvCxnSpPr>
              <a:stCxn id="126" idx="0"/>
            </p:cNvCxnSpPr>
            <p:nvPr/>
          </p:nvCxnSpPr>
          <p:spPr>
            <a:xfrm flipV="1" rot="16200000">
              <a:off x="3962160" y="4084560"/>
              <a:ext cx="89280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7" name="AutoShape 6"/>
            <p:cNvCxnSpPr>
              <a:stCxn id="128" idx="0"/>
            </p:cNvCxnSpPr>
            <p:nvPr/>
          </p:nvCxnSpPr>
          <p:spPr>
            <a:xfrm flipH="1" flipV="1" rot="5400000">
              <a:off x="2480760" y="2605320"/>
              <a:ext cx="892800" cy="2959560"/>
            </a:xfrm>
            <a:prstGeom prst="bentConnector3">
              <a:avLst>
                <a:gd name="adj1" fmla="val 4973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29" name="AutoShape 7"/>
            <p:cNvGrpSpPr/>
            <p:nvPr/>
          </p:nvGrpSpPr>
          <p:grpSpPr>
            <a:xfrm>
              <a:off x="3114720" y="1844640"/>
              <a:ext cx="2584440" cy="1819440"/>
              <a:chOff x="3114720" y="1844640"/>
              <a:chExt cx="2584440" cy="1819440"/>
            </a:xfrm>
          </p:grpSpPr>
          <p:pic>
            <p:nvPicPr>
              <p:cNvPr id="130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14720" y="1844640"/>
                <a:ext cx="2584440" cy="181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226680" y="1953000"/>
                <a:ext cx="2361240" cy="159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  <a:ea typeface="Lucida Sans Unicode"/>
                  </a:rPr>
                  <a:t>1408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AutoShape 8"/>
            <p:cNvSpPr/>
            <p:nvPr/>
          </p:nvSpPr>
          <p:spPr>
            <a:xfrm>
              <a:off x="17928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481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3139920" y="4531320"/>
              <a:ext cx="253548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10"/>
            <p:cNvSpPr/>
            <p:nvPr/>
          </p:nvSpPr>
          <p:spPr>
            <a:xfrm>
              <a:off x="6102360" y="4531320"/>
              <a:ext cx="2535120" cy="17722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927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 ЛЕНИНСКОГО СЕЛЬСОВ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5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4" name="Object 3" descr=""/>
          <p:cNvPicPr/>
          <p:nvPr/>
        </p:nvPicPr>
        <p:blipFill>
          <a:blip r:embed="rId2"/>
          <a:stretch/>
        </p:blipFill>
        <p:spPr>
          <a:xfrm>
            <a:off x="-231840" y="1874880"/>
            <a:ext cx="91440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ЛЕНИНСКОГО  СЕЛЬСОВ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6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37" name="Object 3" descr=""/>
          <p:cNvPicPr/>
          <p:nvPr/>
        </p:nvPicPr>
        <p:blipFill>
          <a:blip r:embed="rId2"/>
          <a:stretch/>
        </p:blipFill>
        <p:spPr>
          <a:xfrm>
            <a:off x="-851040" y="1914480"/>
            <a:ext cx="99950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15-10-16T08:00:45Z</dcterms:modified>
  <cp:revision>53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